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3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A8AD6-C9D6-4CE1-8794-8795F4992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06E7F-003D-4441-896B-EACE64A2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E2487-8587-4991-81DA-D54C699AA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8BFAA-CE84-4744-BF89-BB928DBEF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ACBE-87B0-470D-9835-37D306F69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01BB-59F4-4DE3-A41A-A410446D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575D-C301-4D48-A0A0-632B8332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DA93-43FA-41C2-BE44-8FD07BBE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FE62-78E0-46BB-8BF3-9F1169F5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E4AF-BDE4-4DB1-8F09-48FEE063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B3A8-E1A3-4A1F-B2B1-2D6A02D1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8B315-9396-4804-A74C-8A94F92E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DF11-0E59-46F2-BCD8-35ED71C9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3307-5CFD-4EC6-B62C-176B5C2A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8F4E-369A-4430-B6B3-B217D332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3BCC-6DAF-43E3-B53E-1297C5F75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A7D5-8449-4E35-B163-7B5CF401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DAEEF-EB8E-4D24-AF02-B8F95E73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12F8F-9440-40E1-A73D-659068B6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73283-4609-4DD7-8DDD-CEDB969D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A7AF1-1845-403B-8098-19D27A1B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C486E-FFD1-405E-A109-E3CB8F03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709A9-A0EA-40A5-AC6C-99614990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52681-E758-4C65-8ED1-530462D6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83D9-3DD8-465F-A1EF-E6A7CEF9FFF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7ACB-4B01-4A99-9D2F-AFA77F596C9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¿Quién tiene la cabeza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124080" y="3276720"/>
            <a:ext cx="23241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la camiseta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35053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la oreja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352680" y="12193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505320" y="434340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la oreja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33523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los zapatos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352680" y="12193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429000" y="4114800"/>
            <a:ext cx="2220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los zapatos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342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los hombros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352680" y="1219320"/>
            <a:ext cx="2078280" cy="22096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581280" y="4267080"/>
            <a:ext cx="16160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los hombros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3657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la bufanda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505320" y="1219320"/>
            <a:ext cx="1616040" cy="23619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429000" y="4343400"/>
            <a:ext cx="2209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la bufanda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3504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la boca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429000" y="1143000"/>
            <a:ext cx="2209680" cy="2286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124080" y="4267080"/>
            <a:ext cx="2819520" cy="23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la boca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3809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los dedos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276720" y="1219320"/>
            <a:ext cx="2819160" cy="23954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352680" y="4632480"/>
            <a:ext cx="224316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los dedos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3581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los dedos del pie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352680" y="1219320"/>
            <a:ext cx="2243160" cy="22255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352680" y="4800600"/>
            <a:ext cx="198144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los dedos del pie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el suéter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352680" y="1523880"/>
            <a:ext cx="1981440" cy="11289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048120" y="403848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el suéter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3886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la gorra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200400" y="121932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429000" y="4789440"/>
            <a:ext cx="243828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la gorra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31237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los pantalones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00400" y="1219320"/>
            <a:ext cx="2438280" cy="18828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505320" y="3962520"/>
            <a:ext cx="193356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la cabeza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35053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los pies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81280" y="1523880"/>
            <a:ext cx="1981440" cy="1981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276720" y="4419720"/>
            <a:ext cx="259056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los pantalones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3885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las manos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657600" y="1143000"/>
            <a:ext cx="1933560" cy="2638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rcRect l="0" t="0" r="0" b="19793"/>
          <a:stretch/>
        </p:blipFill>
        <p:spPr>
          <a:xfrm>
            <a:off x="3352680" y="4581360"/>
            <a:ext cx="2514600" cy="20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las manos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3504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el sudadero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19793"/>
          <a:stretch/>
        </p:blipFill>
        <p:spPr>
          <a:xfrm>
            <a:off x="3200400" y="1371600"/>
            <a:ext cx="2514600" cy="20383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3276720" y="4267080"/>
            <a:ext cx="22096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el sudadero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3581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la lengua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200400" y="12952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276720" y="4495680"/>
            <a:ext cx="25336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la lengua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los guantes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352680" y="1371600"/>
            <a:ext cx="2533680" cy="1800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429000" y="4267080"/>
            <a:ext cx="23223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los guantes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la espalda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581280" y="1219320"/>
            <a:ext cx="2322720" cy="23619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429000" y="4475160"/>
            <a:ext cx="259092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la espalda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3809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los calcetines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276720" y="1371600"/>
            <a:ext cx="2590560" cy="23828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3505320" y="4572000"/>
            <a:ext cx="19904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los calcetines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342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la garganta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581280" y="1295280"/>
            <a:ext cx="1990800" cy="2133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3657600" y="42670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la garganta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880" y="32767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las botas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42900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352680" y="3962520"/>
            <a:ext cx="229392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las botas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el cuerpo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352680" y="1371600"/>
            <a:ext cx="2008440" cy="22096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505320" y="4191120"/>
            <a:ext cx="1869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¡Yo tengo el cuerpo!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¡Fantástico!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819520" y="1828800"/>
            <a:ext cx="3475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los pies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la nariz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76720" y="1219320"/>
            <a:ext cx="2590560" cy="1969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479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la nariz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3580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los brazos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581280" y="1219320"/>
            <a:ext cx="1719360" cy="2286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505320" y="4495680"/>
            <a:ext cx="16891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los brazos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3580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el pelo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581280" y="1295280"/>
            <a:ext cx="2181240" cy="23623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971800" y="4495680"/>
            <a:ext cx="3200400" cy="18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el pelo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3733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los ojos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3200400" cy="1814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048120" y="4800600"/>
            <a:ext cx="304776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los ojos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la chaqueta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3048120" cy="1504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2143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la chaqueta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3428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las piernas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429000" y="1219320"/>
            <a:ext cx="2143080" cy="2133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200400" y="4191120"/>
            <a:ext cx="22669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las piernas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3580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la camiseta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352680" y="1295280"/>
            <a:ext cx="2195640" cy="2362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76720" y="4343400"/>
            <a:ext cx="23619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02:15:48Z</dcterms:created>
  <dc:creator>Amy</dc:creator>
  <dc:description/>
  <dc:language>en-US</dc:language>
  <cp:lastModifiedBy>User</cp:lastModifiedBy>
  <dcterms:modified xsi:type="dcterms:W3CDTF">2011-04-25T15:12:01Z</dcterms:modified>
  <cp:revision>3</cp:revision>
  <dc:subject/>
  <dc:title>¿Quién tiene la cabeza?</dc:title>
</cp:coreProperties>
</file>